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644-ADC4-42E9-A3BC-794FCB3C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83E-0E53-4CBD-8871-D93862F1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6A1-D699-490C-9301-7F191E8E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011-E5F8-482D-A56E-114391B1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635-D5DE-40F5-B86C-1C81F3F5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891-956F-43C2-9B20-9A8D5C7A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103-EC90-478B-9D19-32BF2F24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53D-1648-4B55-8EFC-6F48C3A2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85E-0BC8-43E9-BBD2-8D4C0966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2E4-9C15-488D-9CDB-86049516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656-A783-4508-915C-8BAA8847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023-739A-482F-A974-B6139510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D235-3601-4430-8A70-8C71196C8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nnel Tra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. Bonica, R. Dube, K. Kompella, D. Meyer, E. Ro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Dra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raft-ietf-ccamp-tracereq-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raft-bonica-tunproto-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con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kind of tu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tu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neous tu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through data plane, control plane or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Tunnel Tracing Protocol (GT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ce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 and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carries more information than ICMP Time Expired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in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phase discovers top level IP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 details include identifier for supporting tu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phase discovers supporting tu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hases if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53:34Z</dcterms:created>
  <dc:creator>rbonica</dc:creator>
  <dc:description/>
  <dc:language>en-US</dc:language>
  <cp:lastModifiedBy>rbonica</cp:lastModifiedBy>
  <dcterms:modified xsi:type="dcterms:W3CDTF">2002-11-21T14:01:57Z</dcterms:modified>
  <cp:revision>6</cp:revision>
  <dc:subject/>
  <dc:title>Tunnel Tracing</dc:title>
</cp:coreProperties>
</file>